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0BEC-9CD7-434B-BDE8-B38752D32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CA5A-8CD7-4BD2-A4A6-BC1223097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FB9F-2FD8-4900-A318-E859BB028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ED25-FC49-4678-8C89-3C017A214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3DB7-81D3-42ED-9E3D-D7F1FDAB0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8F76-CDD9-4332-A1D3-4C544D3D5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62F5-4F8D-40D5-BAA2-7A4D5F577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6D00-BE77-4BDF-AFF4-B117B0F23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F7FD-8F68-4B5B-9DBF-D259FAF3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578-B9C0-42CF-856C-F3027AC0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A3E-DCE7-4E79-9033-BCCF9E61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6A2-690B-4C75-96D1-3714062D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4A90-6906-4F22-BAAD-7B796ACD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3C18-210C-4177-93E0-C73A0CCC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0646-2158-46D7-84B6-F9A06B19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EB2E-1C26-4CBF-96D4-CA581868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B925-8A96-4576-B02B-02D43CB4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5A94-B975-4A12-8E76-77D06AF3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8C26-394E-456B-8C99-C4074124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CCD7-D772-43FA-B68A-87F9FD1F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0C0D-CF90-44E4-8475-AFED1866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FF26-CA80-4DAA-ACA5-6EF112EF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F83C-BE98-464F-BA29-B36C2893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F10A-7F24-4CB8-B70D-597416EE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982D-DF2B-403B-B929-7D01DCE2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429-EC61-4E6F-A824-BA935232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3D2-E075-4424-A69E-E3708BC9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DDF6-1E0D-498B-8717-5AE928F5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B21D-657C-4D89-A591-D91B9517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3CD3-ABE9-4E5D-BF82-31F0E5F8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CB1F-D67F-48CA-A09E-CF527505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BD10-6AA9-466B-8222-97046F3D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A581-D0E2-4C8C-A54E-1575E2BB2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2846-38BA-4625-BDBF-E764E35A4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nergy Bar Char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represent the role of energy in physic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244520" y="6095880"/>
            <a:ext cx="218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Modeling Chemistry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ccount for Energ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must flow into system via 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5460840" y="5245200"/>
            <a:ext cx="10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b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3809880" y="52452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.5 bar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2108160" y="5232240"/>
            <a:ext cx="10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b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3" descr="EBC-process-5"/>
          <p:cNvPicPr/>
          <p:nvPr/>
        </p:nvPicPr>
        <p:blipFill>
          <a:blip r:embed="rId1"/>
          <a:stretch/>
        </p:blipFill>
        <p:spPr>
          <a:xfrm>
            <a:off x="1928880" y="2890800"/>
            <a:ext cx="477828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onstructing an Energy Bar Char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i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cup of hot coffee cools as it sits on the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what is in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else makes up the surrou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EBC-process"/>
          <p:cNvPicPr/>
          <p:nvPr/>
        </p:nvPicPr>
        <p:blipFill>
          <a:blip r:embed="rId1"/>
          <a:stretch/>
        </p:blipFill>
        <p:spPr>
          <a:xfrm>
            <a:off x="2349360" y="3462480"/>
            <a:ext cx="4519800" cy="19634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4241880" y="440676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p coff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cide whether E</a:t>
            </a:r>
            <a:r>
              <a:rPr b="0" lang="en-US" sz="4400" spc="-1" strike="noStrike" baseline="-25000">
                <a:solidFill>
                  <a:srgbClr val="003366"/>
                </a:solidFill>
                <a:latin typeface="Arial"/>
              </a:rPr>
              <a:t>ch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is involved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case, you start with coffee and end with coffee; particles are not rearranged to form new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ignore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ssign values to E</a:t>
            </a:r>
            <a:r>
              <a:rPr b="0" lang="en-US" sz="44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interactions between particles, the energy stored due to the arrangement of particles is ranke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s &lt; liquids &lt;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hoose to represent these phases by 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ds = 1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quids = 2 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es = 4 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ssign values to E</a:t>
            </a:r>
            <a:r>
              <a:rPr b="0" lang="en-US" sz="44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wo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rs before and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1" descr="EBC-process-1"/>
          <p:cNvPicPr/>
          <p:nvPr/>
        </p:nvPicPr>
        <p:blipFill>
          <a:blip r:embed="rId1"/>
          <a:stretch/>
        </p:blipFill>
        <p:spPr>
          <a:xfrm>
            <a:off x="2095560" y="3056040"/>
            <a:ext cx="451944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hoose bars for E</a:t>
            </a:r>
            <a:r>
              <a:rPr b="0" lang="en-US" sz="4400" spc="-1" strike="noStrike" baseline="-25000">
                <a:solidFill>
                  <a:srgbClr val="003366"/>
                </a:solidFill>
                <a:latin typeface="Arial"/>
              </a:rPr>
              <a:t>k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depending on temperatur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4 bars for hot coffee and 2 bars for room temp cof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values might also work; try to be consistent in your represen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2" descr="EBC-process-2"/>
          <p:cNvPicPr/>
          <p:nvPr/>
        </p:nvPicPr>
        <p:blipFill>
          <a:blip r:embed="rId1"/>
          <a:stretch/>
        </p:blipFill>
        <p:spPr>
          <a:xfrm>
            <a:off x="2273400" y="2852640"/>
            <a:ext cx="451944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Now show energy transfe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situation has 2 less bars of E than initial; 2 bars had to leave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2362320" y="57150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b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4102200" y="571500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bar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5765760" y="57150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b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3" descr="EBC-process-3"/>
          <p:cNvPicPr/>
          <p:nvPr/>
        </p:nvPicPr>
        <p:blipFill>
          <a:blip r:embed="rId1"/>
          <a:stretch/>
        </p:blipFill>
        <p:spPr>
          <a:xfrm>
            <a:off x="2068560" y="3500280"/>
            <a:ext cx="477828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Now, consider phase chang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tray of ice cubes (-8 ˚C) is placed on the counter and becomes water at room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know about the situ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 is the tray of ice cub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id water turns to liquid water - no change in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s (soli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s (temp ri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represent these changes in bar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itial &amp; Final Stat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 of bars for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bitrary, but consist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used 2 bars for room temp and 1 bar for cold soda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 &lt; 0_x0003_˚C should be &lt; 1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4" descr="EBC-process-4"/>
          <p:cNvPicPr/>
          <p:nvPr/>
        </p:nvPicPr>
        <p:blipFill>
          <a:blip r:embed="rId1"/>
          <a:stretch/>
        </p:blipFill>
        <p:spPr>
          <a:xfrm>
            <a:off x="2157480" y="3805200"/>
            <a:ext cx="477828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02:02:10Z</dcterms:created>
  <dc:creator>Larry Dukerich</dc:creator>
  <dc:description/>
  <dc:language>en-US</dc:language>
  <cp:lastModifiedBy>RETI, VALERIE M.</cp:lastModifiedBy>
  <dcterms:modified xsi:type="dcterms:W3CDTF">2012-11-07T19:23:46Z</dcterms:modified>
  <cp:revision>18</cp:revision>
  <dc:subject/>
  <dc:title>Energy Bar Graphs</dc:title>
</cp:coreProperties>
</file>